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AD9-5E1A-49D0-AEE0-E0F5841F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792-7CF4-491A-A950-D9DFA0C0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05D-4967-4979-8FD5-AD8E7229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235-0047-479E-A21C-F6E3FD5D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4ECD-0ED0-4CE1-A318-4BBE8254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9C2F-E9CC-47A3-8FD4-FDD19377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A007-22CC-440D-9BA6-8ED51C44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6A50-D668-496D-9774-A4D437C3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9CF6-81CD-485D-9567-846D0E85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4309-E9D4-4732-8E7A-66D176F3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6EFD-695F-4E00-B9D1-48DEA3A3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A9C-2A2E-4E42-B3FE-5B9872FE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918A-E535-45DA-A81E-B58F155F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AC93-F338-4BCD-B7B3-70415F8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A09F-B6C1-4DB9-B487-BFB614C5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190F-E72B-45D6-9558-69CE615B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20C1-6CBA-4EBA-B17D-B364FFB7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991-32F6-43E2-8AB9-3C6FEE0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E77-D4D0-46B3-98EB-0168EAAC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101-F1F9-4876-AA44-8D37A399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E52-A234-41FA-9048-09FE6B50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0DA-1238-43B1-8E4D-22F8123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794-7E53-4219-9020-4DC4750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D5B-3CAD-43EA-ABD4-506BCAD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7592-EF23-49AA-8E0A-EA7F04FC455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3B14-8FDD-4401-B6C2-1A1A7C3B009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ropa y accesor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e620"/>
                </a:solidFill>
                <a:latin typeface="Arial Black"/>
              </a:rPr>
              <a:t>la muchacha lleva la camisa azul y rosa. Ella lleva es blue jea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164120" cy="52578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124080" y="152280"/>
            <a:ext cx="17528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e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ee"/>
                </a:solidFill>
                <a:latin typeface="Arial Black"/>
              </a:rPr>
              <a:t>Patriots bano su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e620"/>
                </a:solidFill>
                <a:latin typeface="Arial Black"/>
              </a:rPr>
              <a:t>La muchacha la lleva el taja de ba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ee"/>
                </a:solidFill>
                <a:latin typeface="Arial Black"/>
              </a:rPr>
              <a:t>Wes welk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6e620"/>
                </a:solidFill>
                <a:latin typeface="Arial Black"/>
              </a:rPr>
              <a:t>Wes Welker con su uniforme de patriotas con almohadillas y guan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915000" cy="259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3:59:43Z</dcterms:created>
  <dc:creator>saporettijoh</dc:creator>
  <dc:description/>
  <dc:language>en-US</dc:language>
  <cp:lastModifiedBy>saporettijoh</cp:lastModifiedBy>
  <dcterms:modified xsi:type="dcterms:W3CDTF">2011-12-09T14:29:35Z</dcterms:modified>
  <cp:revision>4</cp:revision>
  <dc:subject/>
  <dc:title>La ropa y accesories</dc:title>
</cp:coreProperties>
</file>